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wmf" ContentType="image/x-wmf"/>
  <Override PartName="/ppt/media/image25.png" ContentType="image/png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gif" ContentType="image/gif"/>
  <Override PartName="/ppt/media/image9.wmf" ContentType="image/x-wmf"/>
  <Override PartName="/ppt/media/image5.jpeg" ContentType="image/jpeg"/>
  <Override PartName="/ppt/media/image20.wmf" ContentType="image/x-wmf"/>
  <Override PartName="/ppt/media/image4.wmf" ContentType="image/x-wmf"/>
  <Override PartName="/ppt/media/image23.wmf" ContentType="image/x-wmf"/>
  <Override PartName="/ppt/media/image22.wmf" ContentType="image/x-wmf"/>
  <Override PartName="/ppt/media/image18.jpeg" ContentType="image/jpeg"/>
  <Override PartName="/ppt/media/image21.wmf" ContentType="image/x-wmf"/>
  <Override PartName="/ppt/media/image19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4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 Narrow"/>
              </a:rPr>
              <a:t>Click to move the slide</a:t>
            </a: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E91FA-00E3-4109-B9C0-27169245FF8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9986F-479D-432D-9D17-BEE3C0D9CA82}" type="slidenum">
              <a:rPr b="0" lang="en-GB" sz="12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B504A-7734-48E0-A1AA-680072A83D23}" type="slidenum">
              <a:rPr b="0" lang="en-GB" sz="12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D47EE-B8AB-404D-9C5D-923D8DAC7F3C}" type="slidenum">
              <a:rPr b="0" lang="en-GB" sz="12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81F7D-8C74-46A0-AF1B-EA6A3921C317}" type="slidenum">
              <a:rPr b="0" lang="en-GB" sz="12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9E1B0-112A-4932-9E45-B5E0775D69EB}" type="slidenum">
              <a:rPr b="0" lang="en-GB" sz="12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67DB1-F02B-47FA-9CBF-A989B5141A29}" type="slidenum">
              <a:rPr b="0" lang="en-GB" sz="12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8CBE4-17AD-495F-9E5D-11850A5117A4}" type="slidenum">
              <a:rPr b="0" lang="en-GB" sz="12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2D791-463C-4FEB-8CD4-8EF4F9CBF25A}" type="slidenum">
              <a:rPr b="0" lang="en-GB" sz="12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A89A5-739C-4971-9148-8070EC3CABA4}" type="slidenum">
              <a:rPr b="0" lang="en-GB" sz="12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3E17D-AA6E-4019-B50E-E6AFDAB487BC}" type="slidenum">
              <a:rPr b="0" lang="en-GB" sz="12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2E442-B872-49F2-A1AC-EB729EB39F43}" type="slidenum">
              <a:rPr b="0" lang="en-GB" sz="12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D4444-2C77-4C70-9817-828F96593477}" type="slidenum">
              <a:rPr b="0" lang="en-GB" sz="12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A1AC3-8FC5-43A1-8B4F-4A771B7D9EFC}" type="slidenum">
              <a:rPr b="0" lang="en-GB" sz="12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044D6-E5F5-4E33-9D68-AB88A6B00EB7}" type="slidenum">
              <a:rPr b="0" lang="en-GB" sz="12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6232B-F3AB-4C17-8155-5FB057EA8CD1}" type="slidenum">
              <a:rPr b="0" lang="en-GB" sz="12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1D3BB-EDBA-4B52-8C76-6FC911EC4A9A}" type="slidenum">
              <a:rPr b="0" lang="en-GB" sz="12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BC830-C3C5-4653-B90F-76557A4146E4}" type="slidenum">
              <a:rPr b="0" lang="en-GB" sz="12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01292-8721-4B5A-B5AF-2B48DA4AC352}" type="slidenum">
              <a:rPr b="0" lang="en-GB" sz="12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35302-C80E-4776-9540-72076EEE9B28}" type="slidenum">
              <a:rPr b="0" lang="en-GB" sz="12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4F92C-B08A-4F2B-AB59-40E1005AC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60C56-F258-4263-9BD7-021016E5F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A69F9-3488-4DA0-A7A0-071D45FB7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9ED17-FB9C-4233-B719-B3CD2DBDA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86DD4-9D52-42D3-9C87-6C224D7BD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3A1B9-D7D1-49A7-AF03-08AC98F75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A858D-CF3E-48F7-A62A-7406F8F61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29543-2696-4923-A63D-A52487000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4FA52-507F-4AF3-A059-77436F541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837720" y="6091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3859E-E2E0-44FF-9A5F-13ACA803A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17803-1131-4CA9-B302-155884A9A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9D6FD-626B-4EDB-9045-43567321C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33D4F-2032-4938-ADFF-201A8F88B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48A47-3DAC-4F7B-95D7-5D65B83FA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9FC03-E6E3-4548-9BB4-409374572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D518B-3A8B-4D5B-A8C1-34F544F92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FC85E-E102-4D48-B4E6-38721A4CA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9BAB7-8959-4508-8E26-312FDBA62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D9DFA-3398-46AC-96B6-34C2EB085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71CFD-2038-48D7-BC8D-EA1749E66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837720" y="6091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35D83-D83C-4884-AAB7-9F6F4347A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43F9E-7F52-4D75-8323-662F41A4A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2C856-4945-4C23-9A14-6DDBC3A59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AE0CF-B89F-4C70-B433-97ECA77AA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465480" y="-320400"/>
            <a:ext cx="9765360" cy="7676280"/>
            <a:chOff x="-465480" y="-320400"/>
            <a:chExt cx="9765360" cy="7676280"/>
          </a:xfrm>
        </p:grpSpPr>
        <p:grpSp>
          <p:nvGrpSpPr>
            <p:cNvPr id="1" name="Group 3"/>
            <p:cNvGrpSpPr/>
            <p:nvPr/>
          </p:nvGrpSpPr>
          <p:grpSpPr>
            <a:xfrm>
              <a:off x="-465480" y="-320400"/>
              <a:ext cx="9765360" cy="7676280"/>
              <a:chOff x="-465480" y="-320400"/>
              <a:chExt cx="9765360" cy="7676280"/>
            </a:xfrm>
          </p:grpSpPr>
          <p:sp>
            <p:nvSpPr>
              <p:cNvPr id="2" name="Freeform 4"/>
              <p:cNvSpPr/>
              <p:nvPr/>
            </p:nvSpPr>
            <p:spPr>
              <a:xfrm>
                <a:off x="5264280" y="4719600"/>
                <a:ext cx="1090440" cy="96696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3495600" y="4078440"/>
                <a:ext cx="1567080" cy="117936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3635280" y="4809960"/>
                <a:ext cx="1032120" cy="102888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4145040" y="5621400"/>
                <a:ext cx="1015920" cy="126504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6321600" y="2878200"/>
                <a:ext cx="849240" cy="102384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906800" y="3247920"/>
                <a:ext cx="1090800" cy="96696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rot="3318000">
                <a:off x="3580200" y="2980440"/>
                <a:ext cx="1016280" cy="126540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20977200">
                <a:off x="4695840" y="5342040"/>
                <a:ext cx="849240" cy="102348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2894040" y="4735440"/>
                <a:ext cx="1374840" cy="126216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16245000">
                <a:off x="5741280" y="5927400"/>
                <a:ext cx="849600" cy="102420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rot="6018000">
                <a:off x="3123360" y="5648400"/>
                <a:ext cx="1273320" cy="112068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rot="6283800">
                <a:off x="5399640" y="4840920"/>
                <a:ext cx="1015920" cy="126504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V="1" rot="19272000">
                <a:off x="5064120" y="3566520"/>
                <a:ext cx="1015920" cy="126504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 rot="564000">
                <a:off x="2854440" y="3716280"/>
                <a:ext cx="849240" cy="102384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951200" y="4307040"/>
                <a:ext cx="1090440" cy="96660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182520" y="4065480"/>
                <a:ext cx="1567080" cy="117972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246240" y="4740120"/>
                <a:ext cx="1031760" cy="102888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19469400">
                <a:off x="1174680" y="5913000"/>
                <a:ext cx="1015920" cy="126540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2894040" y="3075120"/>
                <a:ext cx="849240" cy="102384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1593720" y="3235320"/>
                <a:ext cx="1090800" cy="96696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 rot="3318000">
                <a:off x="-113400" y="3158280"/>
                <a:ext cx="1016280" cy="126504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flipH="1" rot="20977200">
                <a:off x="1382040" y="5329080"/>
                <a:ext cx="849240" cy="102384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-19080" y="4665600"/>
                <a:ext cx="1374840" cy="126216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 flipH="1" rot="16245000">
                <a:off x="2409120" y="5889240"/>
                <a:ext cx="849240" cy="102420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 rot="5508000">
                <a:off x="-36000" y="5560920"/>
                <a:ext cx="1272960" cy="112104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 rot="6283800">
                <a:off x="1857240" y="4580280"/>
                <a:ext cx="1016280" cy="126540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 flipV="1" rot="19272000">
                <a:off x="1503360" y="3210840"/>
                <a:ext cx="1015920" cy="126504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 flipH="1" rot="564000">
                <a:off x="798480" y="3494160"/>
                <a:ext cx="849240" cy="102384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1924200" y="1353960"/>
                <a:ext cx="1090440" cy="96696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155520" y="712800"/>
                <a:ext cx="1567080" cy="117936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-28440" y="1749600"/>
                <a:ext cx="1031760" cy="102852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1147680" y="2560680"/>
                <a:ext cx="1015920" cy="126504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4" name="Freeform 36"/>
              <p:cNvSpPr/>
              <p:nvPr/>
            </p:nvSpPr>
            <p:spPr>
              <a:xfrm>
                <a:off x="2867040" y="-30240"/>
                <a:ext cx="849240" cy="102384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5" name="Freeform 37"/>
              <p:cNvSpPr/>
              <p:nvPr/>
            </p:nvSpPr>
            <p:spPr>
              <a:xfrm>
                <a:off x="1566720" y="130320"/>
                <a:ext cx="1090800" cy="96660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 rot="3318000">
                <a:off x="297360" y="-174960"/>
                <a:ext cx="1015920" cy="126504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 flipH="1" rot="20977200">
                <a:off x="1355760" y="1976400"/>
                <a:ext cx="849240" cy="102348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297000" y="1484280"/>
                <a:ext cx="1374480" cy="126216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 flipH="1" rot="16245000">
                <a:off x="2363040" y="2295360"/>
                <a:ext cx="849240" cy="102384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 rot="2428800">
                <a:off x="-254160" y="2646360"/>
                <a:ext cx="1273320" cy="112068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 rot="6283800">
                <a:off x="2059200" y="1475280"/>
                <a:ext cx="1015920" cy="126540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 flipV="1" rot="19272000">
                <a:off x="1476000" y="106200"/>
                <a:ext cx="1015920" cy="126540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 flipH="1" rot="564000">
                <a:off x="-28080" y="351000"/>
                <a:ext cx="849240" cy="102384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5249880" y="1353960"/>
                <a:ext cx="1090440" cy="96696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3481560" y="712800"/>
                <a:ext cx="1566720" cy="117936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46" name="Freeform 48"/>
              <p:cNvSpPr/>
              <p:nvPr/>
            </p:nvSpPr>
            <p:spPr>
              <a:xfrm>
                <a:off x="3297240" y="1749600"/>
                <a:ext cx="1031760" cy="102852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47" name="Freeform 49"/>
              <p:cNvSpPr/>
              <p:nvPr/>
            </p:nvSpPr>
            <p:spPr>
              <a:xfrm>
                <a:off x="4473720" y="2560680"/>
                <a:ext cx="1015920" cy="126504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48" name="Freeform 50"/>
              <p:cNvSpPr/>
              <p:nvPr/>
            </p:nvSpPr>
            <p:spPr>
              <a:xfrm>
                <a:off x="6192720" y="-30240"/>
                <a:ext cx="849600" cy="102384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49" name="Freeform 51"/>
              <p:cNvSpPr/>
              <p:nvPr/>
            </p:nvSpPr>
            <p:spPr>
              <a:xfrm>
                <a:off x="4892760" y="130320"/>
                <a:ext cx="1090440" cy="96660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0" name="Freeform 52"/>
              <p:cNvSpPr/>
              <p:nvPr/>
            </p:nvSpPr>
            <p:spPr>
              <a:xfrm rot="3318000">
                <a:off x="3184920" y="53280"/>
                <a:ext cx="1015920" cy="126504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1" name="Freeform 53"/>
              <p:cNvSpPr/>
              <p:nvPr/>
            </p:nvSpPr>
            <p:spPr>
              <a:xfrm flipH="1" rot="20977200">
                <a:off x="4681440" y="1976400"/>
                <a:ext cx="849240" cy="102348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2" name="Freeform 54"/>
              <p:cNvSpPr/>
              <p:nvPr/>
            </p:nvSpPr>
            <p:spPr>
              <a:xfrm>
                <a:off x="3032280" y="1674720"/>
                <a:ext cx="1374480" cy="126216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3" name="Freeform 55"/>
              <p:cNvSpPr/>
              <p:nvPr/>
            </p:nvSpPr>
            <p:spPr>
              <a:xfrm flipH="1" rot="16245000">
                <a:off x="5688720" y="2295360"/>
                <a:ext cx="849240" cy="102384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 rot="2428800">
                <a:off x="3071520" y="2646360"/>
                <a:ext cx="1272960" cy="112068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 rot="6283800">
                <a:off x="5385240" y="1475280"/>
                <a:ext cx="1015920" cy="126504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 flipV="1" rot="19272000">
                <a:off x="4801680" y="106200"/>
                <a:ext cx="1016280" cy="126504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 flipH="1" rot="564000">
                <a:off x="2935440" y="351000"/>
                <a:ext cx="849240" cy="102384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 flipH="1">
                <a:off x="8059680" y="1349280"/>
                <a:ext cx="1090800" cy="96696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6808680" y="727200"/>
                <a:ext cx="1567080" cy="117936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0" name="Freeform 62"/>
              <p:cNvSpPr/>
              <p:nvPr/>
            </p:nvSpPr>
            <p:spPr>
              <a:xfrm>
                <a:off x="6624720" y="1763640"/>
                <a:ext cx="1031760" cy="102888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1" name="Freeform 63"/>
              <p:cNvSpPr/>
              <p:nvPr/>
            </p:nvSpPr>
            <p:spPr>
              <a:xfrm>
                <a:off x="8086680" y="2479680"/>
                <a:ext cx="1015920" cy="126540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2" name="Freeform 64"/>
              <p:cNvSpPr/>
              <p:nvPr/>
            </p:nvSpPr>
            <p:spPr>
              <a:xfrm>
                <a:off x="7667640" y="11160"/>
                <a:ext cx="1090440" cy="96660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3" name="Freeform 65"/>
              <p:cNvSpPr/>
              <p:nvPr/>
            </p:nvSpPr>
            <p:spPr>
              <a:xfrm rot="3318000">
                <a:off x="6569280" y="-103680"/>
                <a:ext cx="1016280" cy="126540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4" name="Freeform 66"/>
              <p:cNvSpPr/>
              <p:nvPr/>
            </p:nvSpPr>
            <p:spPr>
              <a:xfrm flipH="1" rot="20977200">
                <a:off x="8008920" y="1990800"/>
                <a:ext cx="849240" cy="102348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5" name="Freeform 67"/>
              <p:cNvSpPr/>
              <p:nvPr/>
            </p:nvSpPr>
            <p:spPr>
              <a:xfrm>
                <a:off x="6873840" y="1479600"/>
                <a:ext cx="1374840" cy="126216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6" name="Freeform 68"/>
              <p:cNvSpPr/>
              <p:nvPr/>
            </p:nvSpPr>
            <p:spPr>
              <a:xfrm flipH="1" rot="16245000">
                <a:off x="8213040" y="5071680"/>
                <a:ext cx="849240" cy="102420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7" name="Freeform 69"/>
              <p:cNvSpPr/>
              <p:nvPr/>
            </p:nvSpPr>
            <p:spPr>
              <a:xfrm rot="2428800">
                <a:off x="6608880" y="2527200"/>
                <a:ext cx="1272960" cy="112104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8" name="Freeform 70"/>
              <p:cNvSpPr/>
              <p:nvPr/>
            </p:nvSpPr>
            <p:spPr>
              <a:xfrm rot="6283800">
                <a:off x="7779240" y="1203840"/>
                <a:ext cx="1015920" cy="126504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9" name="Freeform 71"/>
              <p:cNvSpPr/>
              <p:nvPr/>
            </p:nvSpPr>
            <p:spPr>
              <a:xfrm flipV="1" rot="21012000">
                <a:off x="8134200" y="-13320"/>
                <a:ext cx="1016280" cy="126468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70" name="Freeform 72"/>
              <p:cNvSpPr/>
              <p:nvPr/>
            </p:nvSpPr>
            <p:spPr>
              <a:xfrm flipH="1" rot="564000">
                <a:off x="6072120" y="708120"/>
                <a:ext cx="849240" cy="102384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71" name="Freeform 73"/>
              <p:cNvSpPr/>
              <p:nvPr/>
            </p:nvSpPr>
            <p:spPr>
              <a:xfrm rot="6521400">
                <a:off x="8094600" y="4663800"/>
                <a:ext cx="1090440" cy="96696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72" name="Freeform 74"/>
              <p:cNvSpPr/>
              <p:nvPr/>
            </p:nvSpPr>
            <p:spPr>
              <a:xfrm>
                <a:off x="6808680" y="4079880"/>
                <a:ext cx="1567080" cy="117936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73" name="Freeform 75"/>
              <p:cNvSpPr/>
              <p:nvPr/>
            </p:nvSpPr>
            <p:spPr>
              <a:xfrm>
                <a:off x="6624720" y="5116680"/>
                <a:ext cx="1031760" cy="102852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74" name="Freeform 76"/>
              <p:cNvSpPr/>
              <p:nvPr/>
            </p:nvSpPr>
            <p:spPr>
              <a:xfrm rot="5845200">
                <a:off x="8009280" y="5704560"/>
                <a:ext cx="1015920" cy="126540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75" name="Freeform 77"/>
              <p:cNvSpPr/>
              <p:nvPr/>
            </p:nvSpPr>
            <p:spPr>
              <a:xfrm>
                <a:off x="7705800" y="3211560"/>
                <a:ext cx="1090440" cy="96660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76" name="Freeform 78"/>
              <p:cNvSpPr/>
              <p:nvPr/>
            </p:nvSpPr>
            <p:spPr>
              <a:xfrm rot="3318000">
                <a:off x="6512400" y="3172680"/>
                <a:ext cx="1015920" cy="126504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77" name="Freeform 79"/>
              <p:cNvSpPr/>
              <p:nvPr/>
            </p:nvSpPr>
            <p:spPr>
              <a:xfrm flipH="1" rot="20977200">
                <a:off x="7817760" y="5821200"/>
                <a:ext cx="849240" cy="102384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78" name="Freeform 80"/>
              <p:cNvSpPr/>
              <p:nvPr/>
            </p:nvSpPr>
            <p:spPr>
              <a:xfrm>
                <a:off x="6359400" y="5041800"/>
                <a:ext cx="1374840" cy="126216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79" name="Freeform 81"/>
              <p:cNvSpPr/>
              <p:nvPr/>
            </p:nvSpPr>
            <p:spPr>
              <a:xfrm rot="6819600">
                <a:off x="6608880" y="5746320"/>
                <a:ext cx="1272960" cy="112104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80" name="Freeform 82"/>
              <p:cNvSpPr/>
              <p:nvPr/>
            </p:nvSpPr>
            <p:spPr>
              <a:xfrm rot="6283800">
                <a:off x="7283880" y="4061520"/>
                <a:ext cx="1016280" cy="126504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81" name="Freeform 83"/>
              <p:cNvSpPr/>
              <p:nvPr/>
            </p:nvSpPr>
            <p:spPr>
              <a:xfrm flipV="1" rot="15949200">
                <a:off x="8124120" y="3322080"/>
                <a:ext cx="1015920" cy="126468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82" name="Freeform 84"/>
              <p:cNvSpPr/>
              <p:nvPr/>
            </p:nvSpPr>
            <p:spPr>
              <a:xfrm flipH="1" rot="564000">
                <a:off x="6319800" y="3813120"/>
                <a:ext cx="849240" cy="102384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83" name="Group 85"/>
            <p:cNvGrpSpPr/>
            <p:nvPr/>
          </p:nvGrpSpPr>
          <p:grpSpPr>
            <a:xfrm>
              <a:off x="190440" y="473040"/>
              <a:ext cx="8745120" cy="223920"/>
              <a:chOff x="190440" y="473040"/>
              <a:chExt cx="8745120" cy="223920"/>
            </a:xfrm>
          </p:grpSpPr>
          <p:sp>
            <p:nvSpPr>
              <p:cNvPr id="84" name="AutoShape 86"/>
              <p:cNvSpPr/>
              <p:nvPr/>
            </p:nvSpPr>
            <p:spPr>
              <a:xfrm>
                <a:off x="190440" y="473040"/>
                <a:ext cx="8745120" cy="223920"/>
              </a:xfrm>
              <a:prstGeom prst="roundRect">
                <a:avLst>
                  <a:gd name="adj" fmla="val 50000"/>
                </a:avLst>
              </a:prstGeom>
              <a:solidFill>
                <a:srgbClr val="80808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85" name="Rectangle 87"/>
              <p:cNvSpPr/>
              <p:nvPr/>
            </p:nvSpPr>
            <p:spPr>
              <a:xfrm>
                <a:off x="231840" y="536760"/>
                <a:ext cx="8649360" cy="55800"/>
              </a:xfrm>
              <a:prstGeom prst="rect">
                <a:avLst/>
              </a:prstGeom>
              <a:solidFill>
                <a:srgbClr val="80808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000" bIns="9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86" name="Group 88"/>
            <p:cNvGrpSpPr/>
            <p:nvPr/>
          </p:nvGrpSpPr>
          <p:grpSpPr>
            <a:xfrm>
              <a:off x="82440" y="382680"/>
              <a:ext cx="8745120" cy="223920"/>
              <a:chOff x="82440" y="382680"/>
              <a:chExt cx="8745120" cy="223920"/>
            </a:xfrm>
          </p:grpSpPr>
          <p:sp>
            <p:nvSpPr>
              <p:cNvPr id="87" name="AutoShape 89"/>
              <p:cNvSpPr/>
              <p:nvPr/>
            </p:nvSpPr>
            <p:spPr>
              <a:xfrm>
                <a:off x="82440" y="382680"/>
                <a:ext cx="8745120" cy="223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525252"/>
                  </a:gs>
                  <a:gs pos="50000">
                    <a:srgbClr val="b2b2b2"/>
                  </a:gs>
                  <a:gs pos="100000">
                    <a:srgbClr val="52525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88" name="Rectangle 90"/>
              <p:cNvSpPr/>
              <p:nvPr/>
            </p:nvSpPr>
            <p:spPr>
              <a:xfrm>
                <a:off x="123840" y="446400"/>
                <a:ext cx="8649360" cy="5580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50000">
                    <a:srgbClr val="eaeaea"/>
                  </a:gs>
                  <a:gs pos="100000">
                    <a:srgbClr val="b2b2b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000" bIns="9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sp>
          <p:nvSpPr>
            <p:cNvPr id="89" name="Freeform 91"/>
            <p:cNvSpPr/>
            <p:nvPr/>
          </p:nvSpPr>
          <p:spPr>
            <a:xfrm>
              <a:off x="154080" y="476280"/>
              <a:ext cx="1374840" cy="1262160"/>
            </a:xfrm>
            <a:prstGeom prst="pie">
              <a:avLst/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pSp>
          <p:nvGrpSpPr>
            <p:cNvPr id="90" name="Group 92"/>
            <p:cNvGrpSpPr/>
            <p:nvPr/>
          </p:nvGrpSpPr>
          <p:grpSpPr>
            <a:xfrm>
              <a:off x="216000" y="149400"/>
              <a:ext cx="1253880" cy="1169280"/>
              <a:chOff x="216000" y="149400"/>
              <a:chExt cx="1253880" cy="1169280"/>
            </a:xfrm>
          </p:grpSpPr>
          <p:sp>
            <p:nvSpPr>
              <p:cNvPr id="91" name="Freeform 93"/>
              <p:cNvSpPr/>
              <p:nvPr/>
            </p:nvSpPr>
            <p:spPr>
              <a:xfrm>
                <a:off x="216000" y="166320"/>
                <a:ext cx="1253880" cy="1152360"/>
              </a:xfrm>
              <a:prstGeom prst="pie">
                <a:avLst/>
              </a:prstGeom>
              <a:solidFill>
                <a:srgbClr val="f5cd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92" name="Freeform 94"/>
              <p:cNvSpPr/>
              <p:nvPr/>
            </p:nvSpPr>
            <p:spPr>
              <a:xfrm>
                <a:off x="234720" y="172800"/>
                <a:ext cx="287640" cy="845640"/>
              </a:xfrm>
              <a:prstGeom prst="pie">
                <a:avLst/>
              </a:prstGeom>
              <a:gradFill rotWithShape="0">
                <a:gsLst>
                  <a:gs pos="0">
                    <a:srgbClr val="b99ba9"/>
                  </a:gs>
                  <a:gs pos="100000">
                    <a:srgbClr val="f5cdd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93" name="Freeform 95"/>
              <p:cNvSpPr/>
              <p:nvPr/>
            </p:nvSpPr>
            <p:spPr>
              <a:xfrm>
                <a:off x="298440" y="149400"/>
                <a:ext cx="1057320" cy="309240"/>
              </a:xfrm>
              <a:prstGeom prst="pie">
                <a:avLst/>
              </a:prstGeom>
              <a:gradFill rotWithShape="0">
                <a:gsLst>
                  <a:gs pos="0">
                    <a:srgbClr val="b99ba9"/>
                  </a:gs>
                  <a:gs pos="100000">
                    <a:srgbClr val="f5cd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94" name="Freeform 96"/>
              <p:cNvSpPr/>
              <p:nvPr/>
            </p:nvSpPr>
            <p:spPr>
              <a:xfrm>
                <a:off x="582480" y="460080"/>
                <a:ext cx="682560" cy="661680"/>
              </a:xfrm>
              <a:prstGeom prst="pie">
                <a:avLst/>
              </a:prstGeom>
              <a:gradFill rotWithShape="0">
                <a:gsLst>
                  <a:gs pos="0">
                    <a:srgbClr val="f5cddf"/>
                  </a:gs>
                  <a:gs pos="50000">
                    <a:srgbClr val="fdf7fa"/>
                  </a:gs>
                  <a:gs pos="100000">
                    <a:srgbClr val="f5cdd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95" name="Freeform 97"/>
              <p:cNvSpPr/>
              <p:nvPr/>
            </p:nvSpPr>
            <p:spPr>
              <a:xfrm>
                <a:off x="487440" y="379080"/>
                <a:ext cx="406080" cy="402840"/>
              </a:xfrm>
              <a:prstGeom prst="pie">
                <a:avLst/>
              </a:prstGeom>
              <a:gradFill rotWithShape="0">
                <a:gsLst>
                  <a:gs pos="0">
                    <a:srgbClr val="f5cddf"/>
                  </a:gs>
                  <a:gs pos="100000">
                    <a:srgbClr val="fef9f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1" marL="735480" indent="-282960">
              <a:spcBef>
                <a:spcPts val="799"/>
              </a:spcBef>
              <a:buClr>
                <a:srgbClr val="333333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3D5A8-11F8-4AAE-881E-104D40C007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Group 2"/>
          <p:cNvGrpSpPr/>
          <p:nvPr/>
        </p:nvGrpSpPr>
        <p:grpSpPr>
          <a:xfrm>
            <a:off x="-468360" y="-293400"/>
            <a:ext cx="9765000" cy="7676280"/>
            <a:chOff x="-468360" y="-293400"/>
            <a:chExt cx="9765000" cy="7676280"/>
          </a:xfrm>
        </p:grpSpPr>
        <p:grpSp>
          <p:nvGrpSpPr>
            <p:cNvPr id="138" name="Group 3"/>
            <p:cNvGrpSpPr/>
            <p:nvPr/>
          </p:nvGrpSpPr>
          <p:grpSpPr>
            <a:xfrm>
              <a:off x="-468360" y="-293400"/>
              <a:ext cx="9765000" cy="7676280"/>
              <a:chOff x="-468360" y="-293400"/>
              <a:chExt cx="9765000" cy="7676280"/>
            </a:xfrm>
          </p:grpSpPr>
          <p:sp>
            <p:nvSpPr>
              <p:cNvPr id="139" name="Freeform 4"/>
              <p:cNvSpPr/>
              <p:nvPr/>
            </p:nvSpPr>
            <p:spPr>
              <a:xfrm>
                <a:off x="5261040" y="4746600"/>
                <a:ext cx="1090440" cy="96696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40" name="Freeform 5"/>
              <p:cNvSpPr/>
              <p:nvPr/>
            </p:nvSpPr>
            <p:spPr>
              <a:xfrm>
                <a:off x="3492360" y="4105440"/>
                <a:ext cx="1567080" cy="117936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41" name="Freeform 6"/>
              <p:cNvSpPr/>
              <p:nvPr/>
            </p:nvSpPr>
            <p:spPr>
              <a:xfrm>
                <a:off x="3632040" y="4836960"/>
                <a:ext cx="1032120" cy="102888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42" name="Freeform 7"/>
              <p:cNvSpPr/>
              <p:nvPr/>
            </p:nvSpPr>
            <p:spPr>
              <a:xfrm>
                <a:off x="4141800" y="5648400"/>
                <a:ext cx="1015920" cy="126504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43" name="Freeform 8"/>
              <p:cNvSpPr/>
              <p:nvPr/>
            </p:nvSpPr>
            <p:spPr>
              <a:xfrm>
                <a:off x="6318360" y="2905200"/>
                <a:ext cx="849240" cy="102384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44" name="Freeform 9"/>
              <p:cNvSpPr/>
              <p:nvPr/>
            </p:nvSpPr>
            <p:spPr>
              <a:xfrm>
                <a:off x="4903920" y="3274920"/>
                <a:ext cx="1090440" cy="96696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45" name="Freeform 10"/>
              <p:cNvSpPr/>
              <p:nvPr/>
            </p:nvSpPr>
            <p:spPr>
              <a:xfrm rot="3318000">
                <a:off x="3576960" y="3007440"/>
                <a:ext cx="1016280" cy="126540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46" name="Freeform 11"/>
              <p:cNvSpPr/>
              <p:nvPr/>
            </p:nvSpPr>
            <p:spPr>
              <a:xfrm flipH="1" rot="20977200">
                <a:off x="4692600" y="5369040"/>
                <a:ext cx="849240" cy="102348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47" name="Freeform 12"/>
              <p:cNvSpPr/>
              <p:nvPr/>
            </p:nvSpPr>
            <p:spPr>
              <a:xfrm>
                <a:off x="2890800" y="4762440"/>
                <a:ext cx="1374840" cy="126216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48" name="Freeform 13"/>
              <p:cNvSpPr/>
              <p:nvPr/>
            </p:nvSpPr>
            <p:spPr>
              <a:xfrm flipH="1" rot="16245000">
                <a:off x="5737680" y="5954400"/>
                <a:ext cx="849600" cy="102384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49" name="Freeform 14"/>
              <p:cNvSpPr/>
              <p:nvPr/>
            </p:nvSpPr>
            <p:spPr>
              <a:xfrm rot="6018000">
                <a:off x="3120120" y="5675400"/>
                <a:ext cx="1273320" cy="112068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50" name="Freeform 15"/>
              <p:cNvSpPr/>
              <p:nvPr/>
            </p:nvSpPr>
            <p:spPr>
              <a:xfrm rot="6283800">
                <a:off x="5396400" y="4867920"/>
                <a:ext cx="1015920" cy="126504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51" name="Freeform 16"/>
              <p:cNvSpPr/>
              <p:nvPr/>
            </p:nvSpPr>
            <p:spPr>
              <a:xfrm flipV="1" rot="19272000">
                <a:off x="5060880" y="3593520"/>
                <a:ext cx="1015920" cy="126504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52" name="Freeform 17"/>
              <p:cNvSpPr/>
              <p:nvPr/>
            </p:nvSpPr>
            <p:spPr>
              <a:xfrm flipH="1" rot="564000">
                <a:off x="2851200" y="3743280"/>
                <a:ext cx="849240" cy="102384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53" name="Freeform 18"/>
              <p:cNvSpPr/>
              <p:nvPr/>
            </p:nvSpPr>
            <p:spPr>
              <a:xfrm>
                <a:off x="1947960" y="4334040"/>
                <a:ext cx="1090440" cy="96660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54" name="Freeform 19"/>
              <p:cNvSpPr/>
              <p:nvPr/>
            </p:nvSpPr>
            <p:spPr>
              <a:xfrm>
                <a:off x="179280" y="4092480"/>
                <a:ext cx="1567080" cy="117972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55" name="Freeform 20"/>
              <p:cNvSpPr/>
              <p:nvPr/>
            </p:nvSpPr>
            <p:spPr>
              <a:xfrm>
                <a:off x="243000" y="4767120"/>
                <a:ext cx="1031760" cy="102888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56" name="Freeform 21"/>
              <p:cNvSpPr/>
              <p:nvPr/>
            </p:nvSpPr>
            <p:spPr>
              <a:xfrm rot="19469400">
                <a:off x="1171440" y="5940000"/>
                <a:ext cx="1016280" cy="126540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57" name="Freeform 22"/>
              <p:cNvSpPr/>
              <p:nvPr/>
            </p:nvSpPr>
            <p:spPr>
              <a:xfrm>
                <a:off x="2890800" y="3102120"/>
                <a:ext cx="849240" cy="102384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58" name="Freeform 23"/>
              <p:cNvSpPr/>
              <p:nvPr/>
            </p:nvSpPr>
            <p:spPr>
              <a:xfrm>
                <a:off x="1590840" y="3262320"/>
                <a:ext cx="1090440" cy="96696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59" name="Freeform 24"/>
              <p:cNvSpPr/>
              <p:nvPr/>
            </p:nvSpPr>
            <p:spPr>
              <a:xfrm rot="3318000">
                <a:off x="-116640" y="3185280"/>
                <a:ext cx="1015920" cy="126504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60" name="Freeform 25"/>
              <p:cNvSpPr/>
              <p:nvPr/>
            </p:nvSpPr>
            <p:spPr>
              <a:xfrm flipH="1" rot="20977200">
                <a:off x="1378800" y="5356080"/>
                <a:ext cx="849240" cy="102384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61" name="Freeform 26"/>
              <p:cNvSpPr/>
              <p:nvPr/>
            </p:nvSpPr>
            <p:spPr>
              <a:xfrm>
                <a:off x="-22320" y="4692600"/>
                <a:ext cx="1374840" cy="126216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62" name="Freeform 27"/>
              <p:cNvSpPr/>
              <p:nvPr/>
            </p:nvSpPr>
            <p:spPr>
              <a:xfrm flipH="1" rot="16245000">
                <a:off x="2405880" y="5916600"/>
                <a:ext cx="849240" cy="102384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63" name="Freeform 28"/>
              <p:cNvSpPr/>
              <p:nvPr/>
            </p:nvSpPr>
            <p:spPr>
              <a:xfrm rot="5508000">
                <a:off x="-39240" y="5587920"/>
                <a:ext cx="1272960" cy="112104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64" name="Freeform 29"/>
              <p:cNvSpPr/>
              <p:nvPr/>
            </p:nvSpPr>
            <p:spPr>
              <a:xfrm rot="6283800">
                <a:off x="1854720" y="4607640"/>
                <a:ext cx="1016280" cy="126504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65" name="Freeform 30"/>
              <p:cNvSpPr/>
              <p:nvPr/>
            </p:nvSpPr>
            <p:spPr>
              <a:xfrm flipV="1" rot="19272000">
                <a:off x="1500120" y="3237840"/>
                <a:ext cx="1015920" cy="126504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66" name="Freeform 31"/>
              <p:cNvSpPr/>
              <p:nvPr/>
            </p:nvSpPr>
            <p:spPr>
              <a:xfrm flipH="1" rot="564000">
                <a:off x="795240" y="3521160"/>
                <a:ext cx="849240" cy="102384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67" name="Freeform 32"/>
              <p:cNvSpPr/>
              <p:nvPr/>
            </p:nvSpPr>
            <p:spPr>
              <a:xfrm>
                <a:off x="1920960" y="1380960"/>
                <a:ext cx="1090440" cy="96696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68" name="Freeform 33"/>
              <p:cNvSpPr/>
              <p:nvPr/>
            </p:nvSpPr>
            <p:spPr>
              <a:xfrm>
                <a:off x="152280" y="739800"/>
                <a:ext cx="1567080" cy="117936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69" name="Freeform 34"/>
              <p:cNvSpPr/>
              <p:nvPr/>
            </p:nvSpPr>
            <p:spPr>
              <a:xfrm>
                <a:off x="-31680" y="1776240"/>
                <a:ext cx="1031760" cy="102888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70" name="Freeform 35"/>
              <p:cNvSpPr/>
              <p:nvPr/>
            </p:nvSpPr>
            <p:spPr>
              <a:xfrm>
                <a:off x="1144440" y="2587680"/>
                <a:ext cx="1016280" cy="126504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71" name="Freeform 36"/>
              <p:cNvSpPr/>
              <p:nvPr/>
            </p:nvSpPr>
            <p:spPr>
              <a:xfrm>
                <a:off x="2863800" y="-3240"/>
                <a:ext cx="849240" cy="102384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72" name="Freeform 37"/>
              <p:cNvSpPr/>
              <p:nvPr/>
            </p:nvSpPr>
            <p:spPr>
              <a:xfrm>
                <a:off x="1563840" y="157320"/>
                <a:ext cx="1090440" cy="96660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73" name="Freeform 38"/>
              <p:cNvSpPr/>
              <p:nvPr/>
            </p:nvSpPr>
            <p:spPr>
              <a:xfrm rot="3318000">
                <a:off x="294120" y="-147960"/>
                <a:ext cx="1015920" cy="126504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74" name="Freeform 39"/>
              <p:cNvSpPr/>
              <p:nvPr/>
            </p:nvSpPr>
            <p:spPr>
              <a:xfrm flipH="1" rot="20977200">
                <a:off x="1352520" y="2003400"/>
                <a:ext cx="849240" cy="102348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75" name="Freeform 40"/>
              <p:cNvSpPr/>
              <p:nvPr/>
            </p:nvSpPr>
            <p:spPr>
              <a:xfrm>
                <a:off x="293760" y="1511280"/>
                <a:ext cx="1374840" cy="126216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76" name="Freeform 41"/>
              <p:cNvSpPr/>
              <p:nvPr/>
            </p:nvSpPr>
            <p:spPr>
              <a:xfrm flipH="1" rot="16245000">
                <a:off x="2359800" y="2322360"/>
                <a:ext cx="849240" cy="102384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77" name="Freeform 42"/>
              <p:cNvSpPr/>
              <p:nvPr/>
            </p:nvSpPr>
            <p:spPr>
              <a:xfrm rot="2428800">
                <a:off x="-257040" y="2673360"/>
                <a:ext cx="1272960" cy="112068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78" name="Freeform 43"/>
              <p:cNvSpPr/>
              <p:nvPr/>
            </p:nvSpPr>
            <p:spPr>
              <a:xfrm rot="6283800">
                <a:off x="2056320" y="1502280"/>
                <a:ext cx="1015920" cy="126504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79" name="Freeform 44"/>
              <p:cNvSpPr/>
              <p:nvPr/>
            </p:nvSpPr>
            <p:spPr>
              <a:xfrm flipV="1" rot="19272000">
                <a:off x="1472760" y="133200"/>
                <a:ext cx="1015920" cy="126540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80" name="Freeform 45"/>
              <p:cNvSpPr/>
              <p:nvPr/>
            </p:nvSpPr>
            <p:spPr>
              <a:xfrm flipH="1" rot="564000">
                <a:off x="-31320" y="378000"/>
                <a:ext cx="849240" cy="102384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81" name="Freeform 46"/>
              <p:cNvSpPr/>
              <p:nvPr/>
            </p:nvSpPr>
            <p:spPr>
              <a:xfrm>
                <a:off x="5246640" y="1380960"/>
                <a:ext cx="1090800" cy="96696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82" name="Freeform 47"/>
              <p:cNvSpPr/>
              <p:nvPr/>
            </p:nvSpPr>
            <p:spPr>
              <a:xfrm>
                <a:off x="3478320" y="739800"/>
                <a:ext cx="1566720" cy="117936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83" name="Freeform 48"/>
              <p:cNvSpPr/>
              <p:nvPr/>
            </p:nvSpPr>
            <p:spPr>
              <a:xfrm>
                <a:off x="3294000" y="1776240"/>
                <a:ext cx="1031760" cy="102888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84" name="Freeform 49"/>
              <p:cNvSpPr/>
              <p:nvPr/>
            </p:nvSpPr>
            <p:spPr>
              <a:xfrm>
                <a:off x="4470480" y="2587680"/>
                <a:ext cx="1015920" cy="126504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85" name="Freeform 50"/>
              <p:cNvSpPr/>
              <p:nvPr/>
            </p:nvSpPr>
            <p:spPr>
              <a:xfrm>
                <a:off x="6189840" y="-3240"/>
                <a:ext cx="849240" cy="102384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86" name="Freeform 51"/>
              <p:cNvSpPr/>
              <p:nvPr/>
            </p:nvSpPr>
            <p:spPr>
              <a:xfrm>
                <a:off x="4889520" y="157320"/>
                <a:ext cx="1090440" cy="96660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87" name="Freeform 52"/>
              <p:cNvSpPr/>
              <p:nvPr/>
            </p:nvSpPr>
            <p:spPr>
              <a:xfrm rot="3318000">
                <a:off x="3181680" y="80280"/>
                <a:ext cx="1015920" cy="126540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88" name="Freeform 53"/>
              <p:cNvSpPr/>
              <p:nvPr/>
            </p:nvSpPr>
            <p:spPr>
              <a:xfrm flipH="1" rot="20977200">
                <a:off x="4678200" y="2003400"/>
                <a:ext cx="849600" cy="102384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89" name="Freeform 54"/>
              <p:cNvSpPr/>
              <p:nvPr/>
            </p:nvSpPr>
            <p:spPr>
              <a:xfrm>
                <a:off x="3029040" y="1701720"/>
                <a:ext cx="1374840" cy="126216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90" name="Freeform 55"/>
              <p:cNvSpPr/>
              <p:nvPr/>
            </p:nvSpPr>
            <p:spPr>
              <a:xfrm flipH="1" rot="16245000">
                <a:off x="5685480" y="2322360"/>
                <a:ext cx="849240" cy="102384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91" name="Freeform 56"/>
              <p:cNvSpPr/>
              <p:nvPr/>
            </p:nvSpPr>
            <p:spPr>
              <a:xfrm rot="2428800">
                <a:off x="3068280" y="2673360"/>
                <a:ext cx="1273320" cy="112068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92" name="Freeform 57"/>
              <p:cNvSpPr/>
              <p:nvPr/>
            </p:nvSpPr>
            <p:spPr>
              <a:xfrm rot="6283800">
                <a:off x="5382000" y="1502280"/>
                <a:ext cx="1015920" cy="126540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93" name="Freeform 58"/>
              <p:cNvSpPr/>
              <p:nvPr/>
            </p:nvSpPr>
            <p:spPr>
              <a:xfrm flipV="1" rot="19272000">
                <a:off x="4798800" y="133200"/>
                <a:ext cx="1015920" cy="126540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94" name="Freeform 59"/>
              <p:cNvSpPr/>
              <p:nvPr/>
            </p:nvSpPr>
            <p:spPr>
              <a:xfrm flipH="1" rot="564000">
                <a:off x="2932200" y="378000"/>
                <a:ext cx="849240" cy="102384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95" name="Freeform 60"/>
              <p:cNvSpPr/>
              <p:nvPr/>
            </p:nvSpPr>
            <p:spPr>
              <a:xfrm flipH="1">
                <a:off x="8056440" y="1376280"/>
                <a:ext cx="1090800" cy="96696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96" name="Freeform 61"/>
              <p:cNvSpPr/>
              <p:nvPr/>
            </p:nvSpPr>
            <p:spPr>
              <a:xfrm>
                <a:off x="6805440" y="754200"/>
                <a:ext cx="1567080" cy="117936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97" name="Freeform 62"/>
              <p:cNvSpPr/>
              <p:nvPr/>
            </p:nvSpPr>
            <p:spPr>
              <a:xfrm>
                <a:off x="6621480" y="1790640"/>
                <a:ext cx="1031760" cy="102888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98" name="Freeform 63"/>
              <p:cNvSpPr/>
              <p:nvPr/>
            </p:nvSpPr>
            <p:spPr>
              <a:xfrm>
                <a:off x="8083440" y="2506680"/>
                <a:ext cx="1016280" cy="126540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99" name="Freeform 64"/>
              <p:cNvSpPr/>
              <p:nvPr/>
            </p:nvSpPr>
            <p:spPr>
              <a:xfrm>
                <a:off x="7664400" y="38160"/>
                <a:ext cx="1090800" cy="96660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00" name="Freeform 65"/>
              <p:cNvSpPr/>
              <p:nvPr/>
            </p:nvSpPr>
            <p:spPr>
              <a:xfrm rot="3318000">
                <a:off x="6566400" y="-76680"/>
                <a:ext cx="1016280" cy="126504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01" name="Freeform 66"/>
              <p:cNvSpPr/>
              <p:nvPr/>
            </p:nvSpPr>
            <p:spPr>
              <a:xfrm flipH="1" rot="20977200">
                <a:off x="8005680" y="2017800"/>
                <a:ext cx="849240" cy="102348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02" name="Freeform 67"/>
              <p:cNvSpPr/>
              <p:nvPr/>
            </p:nvSpPr>
            <p:spPr>
              <a:xfrm>
                <a:off x="6870600" y="1506600"/>
                <a:ext cx="1374840" cy="126216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03" name="Freeform 68"/>
              <p:cNvSpPr/>
              <p:nvPr/>
            </p:nvSpPr>
            <p:spPr>
              <a:xfrm flipH="1" rot="16245000">
                <a:off x="8209800" y="5099040"/>
                <a:ext cx="849240" cy="102384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04" name="Freeform 69"/>
              <p:cNvSpPr/>
              <p:nvPr/>
            </p:nvSpPr>
            <p:spPr>
              <a:xfrm rot="2428800">
                <a:off x="6605640" y="2554200"/>
                <a:ext cx="1272960" cy="112104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05" name="Freeform 70"/>
              <p:cNvSpPr/>
              <p:nvPr/>
            </p:nvSpPr>
            <p:spPr>
              <a:xfrm rot="6283800">
                <a:off x="7776000" y="1230840"/>
                <a:ext cx="1015920" cy="126504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06" name="Freeform 71"/>
              <p:cNvSpPr/>
              <p:nvPr/>
            </p:nvSpPr>
            <p:spPr>
              <a:xfrm flipV="1" rot="21012000">
                <a:off x="8131320" y="13320"/>
                <a:ext cx="1015920" cy="126504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07" name="Freeform 72"/>
              <p:cNvSpPr/>
              <p:nvPr/>
            </p:nvSpPr>
            <p:spPr>
              <a:xfrm flipH="1" rot="564000">
                <a:off x="6068880" y="735120"/>
                <a:ext cx="849600" cy="102348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08" name="Freeform 73"/>
              <p:cNvSpPr/>
              <p:nvPr/>
            </p:nvSpPr>
            <p:spPr>
              <a:xfrm rot="6521400">
                <a:off x="8091360" y="4690800"/>
                <a:ext cx="1090440" cy="96696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09" name="Freeform 74"/>
              <p:cNvSpPr/>
              <p:nvPr/>
            </p:nvSpPr>
            <p:spPr>
              <a:xfrm>
                <a:off x="6805440" y="4106880"/>
                <a:ext cx="1567080" cy="117936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10" name="Freeform 75"/>
              <p:cNvSpPr/>
              <p:nvPr/>
            </p:nvSpPr>
            <p:spPr>
              <a:xfrm>
                <a:off x="6621480" y="5143680"/>
                <a:ext cx="1031760" cy="102852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11" name="Freeform 76"/>
              <p:cNvSpPr/>
              <p:nvPr/>
            </p:nvSpPr>
            <p:spPr>
              <a:xfrm rot="5845200">
                <a:off x="8005680" y="5731200"/>
                <a:ext cx="1016280" cy="126540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12" name="Freeform 77"/>
              <p:cNvSpPr/>
              <p:nvPr/>
            </p:nvSpPr>
            <p:spPr>
              <a:xfrm>
                <a:off x="7702560" y="3238560"/>
                <a:ext cx="1090440" cy="96660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13" name="Freeform 78"/>
              <p:cNvSpPr/>
              <p:nvPr/>
            </p:nvSpPr>
            <p:spPr>
              <a:xfrm rot="3318000">
                <a:off x="6509160" y="3199680"/>
                <a:ext cx="1015920" cy="126504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14" name="Freeform 79"/>
              <p:cNvSpPr/>
              <p:nvPr/>
            </p:nvSpPr>
            <p:spPr>
              <a:xfrm flipH="1" rot="20977200">
                <a:off x="7814520" y="5848200"/>
                <a:ext cx="849240" cy="102384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15" name="Freeform 80"/>
              <p:cNvSpPr/>
              <p:nvPr/>
            </p:nvSpPr>
            <p:spPr>
              <a:xfrm>
                <a:off x="6356520" y="5068800"/>
                <a:ext cx="1374480" cy="126216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16" name="Freeform 81"/>
              <p:cNvSpPr/>
              <p:nvPr/>
            </p:nvSpPr>
            <p:spPr>
              <a:xfrm rot="6819600">
                <a:off x="6605280" y="5773320"/>
                <a:ext cx="1273320" cy="112068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17" name="Freeform 82"/>
              <p:cNvSpPr/>
              <p:nvPr/>
            </p:nvSpPr>
            <p:spPr>
              <a:xfrm rot="6283800">
                <a:off x="7280280" y="4088160"/>
                <a:ext cx="1016280" cy="126540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18" name="Freeform 83"/>
              <p:cNvSpPr/>
              <p:nvPr/>
            </p:nvSpPr>
            <p:spPr>
              <a:xfrm flipV="1" rot="15949200">
                <a:off x="8120520" y="3348720"/>
                <a:ext cx="1016280" cy="126468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19" name="Freeform 84"/>
              <p:cNvSpPr/>
              <p:nvPr/>
            </p:nvSpPr>
            <p:spPr>
              <a:xfrm flipH="1" rot="564000">
                <a:off x="6316560" y="3840120"/>
                <a:ext cx="849240" cy="102384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220" name="Group 85"/>
            <p:cNvGrpSpPr/>
            <p:nvPr/>
          </p:nvGrpSpPr>
          <p:grpSpPr>
            <a:xfrm>
              <a:off x="97560" y="2772360"/>
              <a:ext cx="8876160" cy="2531520"/>
              <a:chOff x="97560" y="2772360"/>
              <a:chExt cx="8876160" cy="2531520"/>
            </a:xfrm>
          </p:grpSpPr>
          <p:sp>
            <p:nvSpPr>
              <p:cNvPr id="221" name="Freeform 86"/>
              <p:cNvSpPr/>
              <p:nvPr/>
            </p:nvSpPr>
            <p:spPr>
              <a:xfrm rot="17967600">
                <a:off x="356760" y="3306960"/>
                <a:ext cx="1782720" cy="1636560"/>
              </a:xfrm>
              <a:prstGeom prst="pie">
                <a:avLst/>
              </a:prstGeom>
              <a:solidFill>
                <a:srgbClr val="80808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grpSp>
            <p:nvGrpSpPr>
              <p:cNvPr id="222" name="Group 87"/>
              <p:cNvGrpSpPr/>
              <p:nvPr/>
            </p:nvGrpSpPr>
            <p:grpSpPr>
              <a:xfrm>
                <a:off x="228600" y="3525840"/>
                <a:ext cx="8745120" cy="223920"/>
                <a:chOff x="228600" y="3525840"/>
                <a:chExt cx="8745120" cy="223920"/>
              </a:xfrm>
            </p:grpSpPr>
            <p:sp>
              <p:nvSpPr>
                <p:cNvPr id="223" name="AutoShape 88"/>
                <p:cNvSpPr/>
                <p:nvPr/>
              </p:nvSpPr>
              <p:spPr>
                <a:xfrm>
                  <a:off x="228600" y="3525840"/>
                  <a:ext cx="8745120" cy="2239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80808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Rectangle 89"/>
                <p:cNvSpPr/>
                <p:nvPr/>
              </p:nvSpPr>
              <p:spPr>
                <a:xfrm>
                  <a:off x="270000" y="3589560"/>
                  <a:ext cx="8649360" cy="55800"/>
                </a:xfrm>
                <a:prstGeom prst="rect">
                  <a:avLst/>
                </a:prstGeom>
                <a:solidFill>
                  <a:srgbClr val="80808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000" bIns="90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5" name="Group 90"/>
              <p:cNvGrpSpPr/>
              <p:nvPr/>
            </p:nvGrpSpPr>
            <p:grpSpPr>
              <a:xfrm>
                <a:off x="120600" y="3435480"/>
                <a:ext cx="8745120" cy="223560"/>
                <a:chOff x="120600" y="3435480"/>
                <a:chExt cx="8745120" cy="223560"/>
              </a:xfrm>
            </p:grpSpPr>
            <p:sp>
              <p:nvSpPr>
                <p:cNvPr id="226" name="AutoShape 91"/>
                <p:cNvSpPr/>
                <p:nvPr/>
              </p:nvSpPr>
              <p:spPr>
                <a:xfrm>
                  <a:off x="120600" y="3435480"/>
                  <a:ext cx="8745120" cy="2235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525252"/>
                    </a:gs>
                    <a:gs pos="50000">
                      <a:srgbClr val="b2b2b2"/>
                    </a:gs>
                    <a:gs pos="100000">
                      <a:srgbClr val="52525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Rectangle 92"/>
                <p:cNvSpPr/>
                <p:nvPr/>
              </p:nvSpPr>
              <p:spPr>
                <a:xfrm>
                  <a:off x="162000" y="3499200"/>
                  <a:ext cx="8649360" cy="55440"/>
                </a:xfrm>
                <a:prstGeom prst="rect">
                  <a:avLst/>
                </a:prstGeom>
                <a:gradFill rotWithShape="0">
                  <a:gsLst>
                    <a:gs pos="0">
                      <a:srgbClr val="b2b2b2"/>
                    </a:gs>
                    <a:gs pos="50000">
                      <a:srgbClr val="eaeaea"/>
                    </a:gs>
                    <a:gs pos="100000">
                      <a:srgbClr val="b2b2b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640" bIns="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8" name="Group 93"/>
              <p:cNvGrpSpPr/>
              <p:nvPr/>
            </p:nvGrpSpPr>
            <p:grpSpPr>
              <a:xfrm>
                <a:off x="154800" y="2772360"/>
                <a:ext cx="2102040" cy="2152080"/>
                <a:chOff x="154800" y="2772360"/>
                <a:chExt cx="2102040" cy="2152080"/>
              </a:xfrm>
            </p:grpSpPr>
            <p:sp>
              <p:nvSpPr>
                <p:cNvPr id="229" name="Freeform 94"/>
                <p:cNvSpPr/>
                <p:nvPr/>
              </p:nvSpPr>
              <p:spPr>
                <a:xfrm rot="17970000">
                  <a:off x="392040" y="3101040"/>
                  <a:ext cx="1627200" cy="1494360"/>
                </a:xfrm>
                <a:prstGeom prst="pie">
                  <a:avLst/>
                </a:prstGeom>
                <a:solidFill>
                  <a:srgbClr val="f5cdd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Freeform 95"/>
                <p:cNvSpPr/>
                <p:nvPr/>
              </p:nvSpPr>
              <p:spPr>
                <a:xfrm rot="17970000">
                  <a:off x="560880" y="3728520"/>
                  <a:ext cx="367200" cy="1096920"/>
                </a:xfrm>
                <a:prstGeom prst="pie">
                  <a:avLst/>
                </a:prstGeom>
                <a:gradFill rotWithShape="0">
                  <a:gsLst>
                    <a:gs pos="0">
                      <a:srgbClr val="b99ba9"/>
                    </a:gs>
                    <a:gs pos="100000">
                      <a:srgbClr val="f5cdd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Freeform 96"/>
                <p:cNvSpPr/>
                <p:nvPr/>
              </p:nvSpPr>
              <p:spPr>
                <a:xfrm rot="17970000">
                  <a:off x="-2520" y="3398400"/>
                  <a:ext cx="1379520" cy="360000"/>
                </a:xfrm>
                <a:prstGeom prst="pie">
                  <a:avLst/>
                </a:prstGeom>
                <a:gradFill rotWithShape="0">
                  <a:gsLst>
                    <a:gs pos="0">
                      <a:srgbClr val="b99ba9"/>
                    </a:gs>
                    <a:gs pos="100000">
                      <a:srgbClr val="f5cdd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Freeform 97"/>
                <p:cNvSpPr/>
                <p:nvPr/>
              </p:nvSpPr>
              <p:spPr>
                <a:xfrm rot="17970000">
                  <a:off x="870840" y="3358440"/>
                  <a:ext cx="884880" cy="858600"/>
                </a:xfrm>
                <a:prstGeom prst="pie">
                  <a:avLst/>
                </a:prstGeom>
                <a:gradFill rotWithShape="0">
                  <a:gsLst>
                    <a:gs pos="0">
                      <a:srgbClr val="f5cddf"/>
                    </a:gs>
                    <a:gs pos="50000">
                      <a:srgbClr val="fdf7fa"/>
                    </a:gs>
                    <a:gs pos="100000">
                      <a:srgbClr val="f5cddf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Freeform 98"/>
                <p:cNvSpPr/>
                <p:nvPr/>
              </p:nvSpPr>
              <p:spPr>
                <a:xfrm rot="17970000">
                  <a:off x="661680" y="3655440"/>
                  <a:ext cx="526680" cy="521280"/>
                </a:xfrm>
                <a:prstGeom prst="pie">
                  <a:avLst/>
                </a:prstGeom>
                <a:gradFill rotWithShape="0">
                  <a:gsLst>
                    <a:gs pos="0">
                      <a:srgbClr val="f5cddf"/>
                    </a:gs>
                    <a:gs pos="100000">
                      <a:srgbClr val="fef9fb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1" marL="735480" indent="-282960">
              <a:spcBef>
                <a:spcPts val="799"/>
              </a:spcBef>
              <a:buClr>
                <a:srgbClr val="333333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63B68-C97D-478E-9F5D-FD80A861C495}" type="slidenum"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image" Target="../media/image11.gif"/><Relationship Id="rId5" Type="http://schemas.openxmlformats.org/officeDocument/2006/relationships/image" Target="../media/image12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store6.yimg.com/I/xenoline_1676_152833" TargetMode="External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worldofteaching.com/" TargetMode="External"/><Relationship Id="rId2" Type="http://schemas.openxmlformats.org/officeDocument/2006/relationships/hyperlink" Target="http://www.worldofteaching.com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905120" y="22093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 Black"/>
              </a:rPr>
              <a:t>The Periodic Table</a:t>
            </a: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2437920" y="3886200"/>
            <a:ext cx="53341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Chapter 6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 Narrow"/>
              </a:rPr>
              <a:t>Alkaline Earth Metals</a:t>
            </a: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 Narrow"/>
              </a:rPr>
              <a:t>Second column on the periodic table. (Group 2)</a:t>
            </a: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 Narrow"/>
              </a:rPr>
              <a:t>Reactive metals that are always combined with nonmetals in nature.</a:t>
            </a: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 Narrow"/>
              </a:rPr>
              <a:t>Several of these elements are important mineral nutrients (such as Mg and Ca</a:t>
            </a: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</p:txBody>
      </p:sp>
      <p:pic>
        <p:nvPicPr>
          <p:cNvPr id="310" name="Picture 5" descr="j0198660"/>
          <p:cNvPicPr/>
          <p:nvPr/>
        </p:nvPicPr>
        <p:blipFill>
          <a:blip r:embed="rId1"/>
          <a:stretch/>
        </p:blipFill>
        <p:spPr>
          <a:xfrm>
            <a:off x="4648320" y="2481120"/>
            <a:ext cx="3809880" cy="31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 Narrow"/>
              </a:rPr>
              <a:t>Transition Metals</a:t>
            </a: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 Narrow"/>
              </a:rPr>
              <a:t>Elements in groups 3-12</a:t>
            </a: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 Narrow"/>
              </a:rPr>
              <a:t>Less reactive harder metals</a:t>
            </a: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 Narrow"/>
              </a:rPr>
              <a:t>Includes metals used in jewelry and construction.</a:t>
            </a: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 Narrow"/>
              </a:rPr>
              <a:t>Metals used “as metal.”</a:t>
            </a: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</p:txBody>
      </p:sp>
      <p:pic>
        <p:nvPicPr>
          <p:cNvPr id="313" name="Picture 5" descr="SY00057_"/>
          <p:cNvPicPr/>
          <p:nvPr/>
        </p:nvPicPr>
        <p:blipFill>
          <a:blip r:embed="rId1"/>
          <a:stretch/>
        </p:blipFill>
        <p:spPr>
          <a:xfrm>
            <a:off x="685800" y="2048040"/>
            <a:ext cx="1905120" cy="199044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6" descr="j0128362"/>
          <p:cNvPicPr/>
          <p:nvPr/>
        </p:nvPicPr>
        <p:blipFill>
          <a:blip r:embed="rId2"/>
          <a:stretch/>
        </p:blipFill>
        <p:spPr>
          <a:xfrm>
            <a:off x="457200" y="4114800"/>
            <a:ext cx="2209680" cy="220968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7" descr="BS00590_"/>
          <p:cNvPicPr/>
          <p:nvPr/>
        </p:nvPicPr>
        <p:blipFill>
          <a:blip r:embed="rId3"/>
          <a:stretch/>
        </p:blipFill>
        <p:spPr>
          <a:xfrm>
            <a:off x="6553080" y="4343400"/>
            <a:ext cx="1839960" cy="186840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8" descr="AG00534_"/>
          <p:cNvPicPr/>
          <p:nvPr/>
        </p:nvPicPr>
        <p:blipFill>
          <a:blip r:embed="rId4"/>
          <a:stretch/>
        </p:blipFill>
        <p:spPr>
          <a:xfrm>
            <a:off x="7315200" y="2514600"/>
            <a:ext cx="1557360" cy="172260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9" descr="j0127290"/>
          <p:cNvPicPr/>
          <p:nvPr/>
        </p:nvPicPr>
        <p:blipFill>
          <a:blip r:embed="rId5"/>
          <a:stretch/>
        </p:blipFill>
        <p:spPr>
          <a:xfrm>
            <a:off x="6553080" y="1371600"/>
            <a:ext cx="210672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 Narrow"/>
              </a:rPr>
              <a:t>Boron Family</a:t>
            </a: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 Narrow"/>
              </a:rPr>
              <a:t>Elements in group 13</a:t>
            </a: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 Narrow"/>
              </a:rPr>
              <a:t>Aluminum metal was once rare and expensive, not a “disposable metal.”</a:t>
            </a: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</p:txBody>
      </p:sp>
      <p:pic>
        <p:nvPicPr>
          <p:cNvPr id="320" name="Picture 6" descr="j0281756"/>
          <p:cNvPicPr/>
          <p:nvPr/>
        </p:nvPicPr>
        <p:blipFill>
          <a:blip r:embed="rId1"/>
          <a:stretch/>
        </p:blipFill>
        <p:spPr>
          <a:xfrm>
            <a:off x="4648320" y="2819520"/>
            <a:ext cx="380988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 Narrow"/>
              </a:rPr>
              <a:t>Carbon Family</a:t>
            </a: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1640" y="1219320"/>
            <a:ext cx="38098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 Narrow"/>
              </a:rPr>
              <a:t>Elements in group 14</a:t>
            </a: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 Narrow"/>
              </a:rPr>
              <a:t>Contains elements important to life and computers.</a:t>
            </a: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 Narrow"/>
              </a:rPr>
              <a:t>Carbon is the basis for an </a:t>
            </a:r>
            <a:r>
              <a:rPr b="1" lang="en-US" sz="2800" spc="-1" strike="noStrike">
                <a:solidFill>
                  <a:srgbClr val="333333"/>
                </a:solidFill>
                <a:latin typeface="Arial Narrow"/>
              </a:rPr>
              <a:t>entire branch</a:t>
            </a:r>
            <a:r>
              <a:rPr b="0" lang="en-US" sz="2800" spc="-1" strike="noStrike">
                <a:solidFill>
                  <a:srgbClr val="333333"/>
                </a:solidFill>
                <a:latin typeface="Arial Narrow"/>
              </a:rPr>
              <a:t> of chemistry.</a:t>
            </a: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 Narrow"/>
              </a:rPr>
              <a:t>Silicon and Germanium are important semiconductors.</a:t>
            </a: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</p:txBody>
      </p:sp>
      <p:pic>
        <p:nvPicPr>
          <p:cNvPr id="323" name="Picture 6" descr="BD09250_"/>
          <p:cNvPicPr/>
          <p:nvPr/>
        </p:nvPicPr>
        <p:blipFill>
          <a:blip r:embed="rId1"/>
          <a:stretch/>
        </p:blipFill>
        <p:spPr>
          <a:xfrm>
            <a:off x="685800" y="2263680"/>
            <a:ext cx="3809880" cy="35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 Narrow"/>
              </a:rPr>
              <a:t>Nitrogen Family</a:t>
            </a: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647960" y="1523880"/>
            <a:ext cx="380988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 Narrow"/>
              </a:rPr>
              <a:t>Elements in group 15</a:t>
            </a: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 Narrow"/>
              </a:rPr>
              <a:t>Nitrogen makes up over  ¾ of the atmosphere.</a:t>
            </a: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 Narrow"/>
              </a:rPr>
              <a:t>Nitrogen and phosphorus are both important in living things.</a:t>
            </a: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 Narrow"/>
              </a:rPr>
              <a:t>Most of the world’s nitrogen is not available to living things.</a:t>
            </a: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 Narrow"/>
              </a:rPr>
              <a:t>The red stuff on the tip of matches is phosphorus.</a:t>
            </a: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</p:txBody>
      </p:sp>
      <p:pic>
        <p:nvPicPr>
          <p:cNvPr id="326" name="Picture 6" descr="j0199203"/>
          <p:cNvPicPr/>
          <p:nvPr/>
        </p:nvPicPr>
        <p:blipFill>
          <a:blip r:embed="rId1"/>
          <a:stretch/>
        </p:blipFill>
        <p:spPr>
          <a:xfrm>
            <a:off x="762120" y="4191120"/>
            <a:ext cx="1703160" cy="205092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7" descr="j0131765"/>
          <p:cNvPicPr/>
          <p:nvPr/>
        </p:nvPicPr>
        <p:blipFill>
          <a:blip r:embed="rId2"/>
          <a:stretch/>
        </p:blipFill>
        <p:spPr>
          <a:xfrm>
            <a:off x="685800" y="1600200"/>
            <a:ext cx="3809880" cy="295596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8" descr="j0293564"/>
          <p:cNvPicPr/>
          <p:nvPr/>
        </p:nvPicPr>
        <p:blipFill>
          <a:blip r:embed="rId3"/>
          <a:stretch/>
        </p:blipFill>
        <p:spPr>
          <a:xfrm>
            <a:off x="3164040" y="4648320"/>
            <a:ext cx="920520" cy="14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 Narrow"/>
              </a:rPr>
              <a:t>Oxygen Family or Chalcogens</a:t>
            </a: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 Narrow"/>
              </a:rPr>
              <a:t>Elements in group 16</a:t>
            </a: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 Narrow"/>
              </a:rPr>
              <a:t>Oxygen is necessary for respiration.</a:t>
            </a: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 Narrow"/>
              </a:rPr>
              <a:t>Many things that stink, contain sulfur (rotten eggs, garlic, skunks,etc.) </a:t>
            </a: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</p:txBody>
      </p:sp>
      <p:pic>
        <p:nvPicPr>
          <p:cNvPr id="331" name="Picture 7" descr="j0177947"/>
          <p:cNvPicPr/>
          <p:nvPr/>
        </p:nvPicPr>
        <p:blipFill>
          <a:blip r:embed="rId1"/>
          <a:stretch/>
        </p:blipFill>
        <p:spPr>
          <a:xfrm>
            <a:off x="5791320" y="4648320"/>
            <a:ext cx="2819160" cy="187956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8" descr="j0208320"/>
          <p:cNvPicPr/>
          <p:nvPr/>
        </p:nvPicPr>
        <p:blipFill>
          <a:blip r:embed="rId2"/>
          <a:stretch/>
        </p:blipFill>
        <p:spPr>
          <a:xfrm>
            <a:off x="1066680" y="4724280"/>
            <a:ext cx="1905120" cy="180036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12" descr="j0140627"/>
          <p:cNvPicPr/>
          <p:nvPr/>
        </p:nvPicPr>
        <p:blipFill>
          <a:blip r:embed="rId3"/>
          <a:stretch/>
        </p:blipFill>
        <p:spPr>
          <a:xfrm>
            <a:off x="5029200" y="1752480"/>
            <a:ext cx="3200400" cy="25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 Narrow"/>
              </a:rPr>
              <a:t>Halogens</a:t>
            </a: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 Narrow"/>
              </a:rPr>
              <a:t>Elements in group 17</a:t>
            </a: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 Narrow"/>
              </a:rPr>
              <a:t>Very reactive, volatile, diatomic, nonmetals</a:t>
            </a: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 Narrow"/>
              </a:rPr>
              <a:t>Always found combined with other element in nature .</a:t>
            </a: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 Narrow"/>
              </a:rPr>
              <a:t>Used as disinfectants and to strengthen teeth.</a:t>
            </a: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</p:txBody>
      </p:sp>
      <p:pic>
        <p:nvPicPr>
          <p:cNvPr id="336" name="Picture 6" descr="HM00389_"/>
          <p:cNvPicPr/>
          <p:nvPr/>
        </p:nvPicPr>
        <p:blipFill>
          <a:blip r:embed="rId1"/>
          <a:stretch/>
        </p:blipFill>
        <p:spPr>
          <a:xfrm>
            <a:off x="6324480" y="3733920"/>
            <a:ext cx="2490840" cy="255420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8" descr="SO01580_"/>
          <p:cNvPicPr/>
          <p:nvPr/>
        </p:nvPicPr>
        <p:blipFill>
          <a:blip r:embed="rId2"/>
          <a:stretch/>
        </p:blipFill>
        <p:spPr>
          <a:xfrm>
            <a:off x="4648320" y="1219320"/>
            <a:ext cx="3809880" cy="251748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9" descr="HM00232_"/>
          <p:cNvPicPr/>
          <p:nvPr/>
        </p:nvPicPr>
        <p:blipFill>
          <a:blip r:embed="rId3"/>
          <a:stretch/>
        </p:blipFill>
        <p:spPr>
          <a:xfrm>
            <a:off x="4419720" y="4419720"/>
            <a:ext cx="198108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 Narrow"/>
              </a:rPr>
              <a:t>The Noble Gases</a:t>
            </a: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pic>
        <p:nvPicPr>
          <p:cNvPr id="340" name="Picture 10" descr="j0116683"/>
          <p:cNvPicPr/>
          <p:nvPr/>
        </p:nvPicPr>
        <p:blipFill>
          <a:blip r:embed="rId1"/>
          <a:stretch/>
        </p:blipFill>
        <p:spPr>
          <a:xfrm>
            <a:off x="2743200" y="1600200"/>
            <a:ext cx="365616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 Narrow"/>
              </a:rPr>
              <a:t>The Noble Gases</a:t>
            </a: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 Narrow"/>
              </a:rPr>
              <a:t>Elements in group 18</a:t>
            </a: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 Narrow"/>
              </a:rPr>
              <a:t>VERY unreactive, monatomic gases</a:t>
            </a: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 Narrow"/>
              </a:rPr>
              <a:t>Used in lighted “neon” signs</a:t>
            </a: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 Narrow"/>
              </a:rPr>
              <a:t>Used in blimps to fix the Hindenberg problem.</a:t>
            </a: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 Narrow"/>
              </a:rPr>
              <a:t>Have a full valence shell.</a:t>
            </a: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</p:txBody>
      </p:sp>
      <p:pic>
        <p:nvPicPr>
          <p:cNvPr id="343" name="Picture 7" descr="xenoline_1676_13913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164200" y="1981080"/>
            <a:ext cx="27781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Text Box 2"/>
          <p:cNvSpPr/>
          <p:nvPr/>
        </p:nvSpPr>
        <p:spPr>
          <a:xfrm>
            <a:off x="684360" y="1052640"/>
            <a:ext cx="7920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  <a:ea typeface="Arial"/>
              </a:rPr>
              <a:t>This powerpoint was kindly donated to </a:t>
            </a:r>
            <a:r>
              <a:rPr b="0" lang="en-GB" sz="2400" spc="-1" strike="noStrike" u="sng">
                <a:solidFill>
                  <a:srgbClr val="0064f8"/>
                </a:solidFill>
                <a:uFillTx/>
                <a:latin typeface="Arial"/>
                <a:ea typeface="Arial"/>
                <a:hlinkClick r:id="rId1"/>
              </a:rPr>
              <a:t>www.worldofteaching.com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64f8"/>
                </a:solidFill>
                <a:uFillTx/>
                <a:latin typeface="Arial"/>
                <a:ea typeface="Arial"/>
                <a:hlinkClick r:id="rId2"/>
              </a:rPr>
              <a:t>http://www.worldofteaching.com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  <a:ea typeface="Arial"/>
              </a:rPr>
              <a:t> is home to over a thousand powerpoints submitted by teachers. This is a completely free site and requires no registration. Please visit and I hope it will help in your teaching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 Narrow"/>
              </a:rPr>
              <a:t>Why is the Periodic Table important to me?</a:t>
            </a: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 Narrow"/>
              </a:rPr>
              <a:t>The periodic table is the most useful tool to a chemist.</a:t>
            </a: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 Narrow"/>
              </a:rPr>
              <a:t>You get to use it on every test.</a:t>
            </a: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 Narrow"/>
              </a:rPr>
              <a:t>It organizes lots of information about all the known elements.</a:t>
            </a: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</p:txBody>
      </p:sp>
      <p:pic>
        <p:nvPicPr>
          <p:cNvPr id="286" name="Picture 5" descr="PE03774_"/>
          <p:cNvPicPr/>
          <p:nvPr/>
        </p:nvPicPr>
        <p:blipFill>
          <a:blip r:embed="rId1"/>
          <a:stretch/>
        </p:blipFill>
        <p:spPr>
          <a:xfrm>
            <a:off x="685800" y="2036880"/>
            <a:ext cx="3809880" cy="400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 Narrow"/>
              </a:rPr>
              <a:t>Pre-Periodic Table Chemistry …</a:t>
            </a: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 Narrow"/>
              </a:rPr>
              <a:t>…</a:t>
            </a:r>
            <a:r>
              <a:rPr b="0" lang="en-US" sz="2800" spc="-1" strike="noStrike">
                <a:solidFill>
                  <a:srgbClr val="333333"/>
                </a:solidFill>
                <a:latin typeface="Arial Narrow"/>
              </a:rPr>
              <a:t>was a mess!!!</a:t>
            </a: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 Narrow"/>
              </a:rPr>
              <a:t>No organization of elements.</a:t>
            </a: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 Narrow"/>
              </a:rPr>
              <a:t>Imagine going to a grocery store with no organization!!</a:t>
            </a: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 Narrow"/>
              </a:rPr>
              <a:t>Difficult to find information.</a:t>
            </a: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 Narrow"/>
              </a:rPr>
              <a:t>Chemistry didn’t make sense.</a:t>
            </a: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</p:txBody>
      </p:sp>
      <p:pic>
        <p:nvPicPr>
          <p:cNvPr id="289" name="Picture 5" descr="j0168366"/>
          <p:cNvPicPr/>
          <p:nvPr/>
        </p:nvPicPr>
        <p:blipFill>
          <a:blip r:embed="rId1"/>
          <a:stretch/>
        </p:blipFill>
        <p:spPr>
          <a:xfrm>
            <a:off x="4979880" y="2438280"/>
            <a:ext cx="34783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" dur="50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" dur="500"/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" dur="500"/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0" dur="500"/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5" dur="500"/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 Narrow"/>
              </a:rPr>
              <a:t>Dmitri Mendeleev: Father of the Table</a:t>
            </a: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 Narrow"/>
              </a:rPr>
              <a:t>	</a:t>
            </a:r>
            <a:r>
              <a:rPr b="1" lang="en-US" sz="2800" spc="-1" strike="noStrike" u="sng">
                <a:solidFill>
                  <a:srgbClr val="333333"/>
                </a:solidFill>
                <a:uFillTx/>
                <a:latin typeface="Arial Narrow"/>
              </a:rPr>
              <a:t>HOW HIS WORKED…</a:t>
            </a: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 Narrow"/>
              </a:rPr>
              <a:t>Put elements in rows by increasing atomic weight.</a:t>
            </a: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 Narrow"/>
              </a:rPr>
              <a:t>Put elements in columns by the way they reacted.</a:t>
            </a: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 Narrow"/>
              </a:rPr>
              <a:t>	</a:t>
            </a:r>
            <a:r>
              <a:rPr b="1" lang="en-US" sz="2800" spc="-1" strike="noStrike" u="sng">
                <a:solidFill>
                  <a:srgbClr val="333333"/>
                </a:solidFill>
                <a:uFillTx/>
                <a:latin typeface="Arial Narrow"/>
              </a:rPr>
              <a:t>SOME PROBLEMS…</a:t>
            </a: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 Narrow"/>
              </a:rPr>
              <a:t>He left blank spaces for what he said were undiscovered elements.  (Turned out he was right!)</a:t>
            </a: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 Narrow"/>
              </a:rPr>
              <a:t>He broke the pattern of increasing atomic weight to keep similar reacting elements together.</a:t>
            </a: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</p:txBody>
      </p:sp>
      <p:pic>
        <p:nvPicPr>
          <p:cNvPr id="293" name="Picture 5" descr="j0226622"/>
          <p:cNvPicPr/>
          <p:nvPr/>
        </p:nvPicPr>
        <p:blipFill>
          <a:blip r:embed="rId1"/>
          <a:stretch/>
        </p:blipFill>
        <p:spPr>
          <a:xfrm>
            <a:off x="990720" y="4495680"/>
            <a:ext cx="2558880" cy="18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 Narrow"/>
              </a:rPr>
              <a:t>The Current Periodic Table</a:t>
            </a: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Mendeleev wasn’t too far off.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Now the elements are put in rows by increasing </a:t>
            </a:r>
            <a:r>
              <a:rPr b="1" lang="en-US" sz="5400" spc="-1" strike="noStrike" u="sng">
                <a:solidFill>
                  <a:srgbClr val="333333"/>
                </a:solidFill>
                <a:uFillTx/>
                <a:latin typeface="Arial Narrow"/>
              </a:rPr>
              <a:t>ATOMIC NUMBER!!</a:t>
            </a:r>
            <a:endParaRPr b="0" lang="en-US" sz="54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The horizontal rows are called periods and are labeled from 1 to 7.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The vertical columns are called groups are labeled from 1 to 18.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 Narrow"/>
              </a:rPr>
              <a:t>Groups…Here’s Where the Periodic Table Gets Useful!!</a:t>
            </a: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33"/>
                </a:solidFill>
                <a:latin typeface="Arial Narrow"/>
                <a:ea typeface="Times New Roman"/>
              </a:rPr>
              <a:t>Elements in the same group have similar chemical and physical properties!! </a:t>
            </a:r>
            <a:endParaRPr b="0" lang="en-US" sz="40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-343080">
              <a:spcBef>
                <a:spcPts val="499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 Narrow"/>
                <a:ea typeface="Times New Roman"/>
              </a:rPr>
              <a:t>(Mendeleev did that on purpose.)</a:t>
            </a:r>
            <a:endParaRPr b="0" lang="en-US" sz="20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98" name="Rectangle 5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 Narrow"/>
                <a:ea typeface="Times New Roman"/>
              </a:rPr>
              <a:t>Why??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 Narrow"/>
                <a:ea typeface="Times New Roman"/>
              </a:rPr>
              <a:t>They have the same number of valence electrons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 Narrow"/>
                <a:ea typeface="Times New Roman"/>
              </a:rPr>
              <a:t>They will form the same kinds of ions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 Narrow"/>
              </a:rPr>
              <a:t>Families on the Periodic Table</a:t>
            </a: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4419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 Narrow"/>
              </a:rPr>
              <a:t>Columns are also grouped into families.</a:t>
            </a: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 Narrow"/>
              </a:rPr>
              <a:t>Families may be one column, or several columns put together.</a:t>
            </a: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 Narrow"/>
              </a:rPr>
              <a:t>Families have names rather than numbers.  (Just like your family has a common last name.)</a:t>
            </a: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</p:txBody>
      </p:sp>
      <p:pic>
        <p:nvPicPr>
          <p:cNvPr id="301" name="Picture 6" descr=""/>
          <p:cNvPicPr/>
          <p:nvPr/>
        </p:nvPicPr>
        <p:blipFill>
          <a:blip r:embed="rId1"/>
          <a:stretch/>
        </p:blipFill>
        <p:spPr>
          <a:xfrm>
            <a:off x="5345280" y="1981080"/>
            <a:ext cx="24145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 Narrow"/>
              </a:rPr>
              <a:t>Hydrogen</a:t>
            </a: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 Narrow"/>
              </a:rPr>
              <a:t>Hydrogen belongs to a family of its own.</a:t>
            </a:r>
            <a:endParaRPr b="0" lang="en-US" sz="24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 Narrow"/>
              </a:rPr>
              <a:t>Hydrogen is a diatomic, reactive gas.</a:t>
            </a:r>
            <a:endParaRPr b="0" lang="en-US" sz="24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 Narrow"/>
              </a:rPr>
              <a:t>Hydrogen was involved in the explosion of the Hindenberg.</a:t>
            </a:r>
            <a:endParaRPr b="0" lang="en-US" sz="24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 Narrow"/>
              </a:rPr>
              <a:t>Hydrogen is promising as an alternative fuel source for automobiles</a:t>
            </a:r>
            <a:endParaRPr b="0" lang="en-US" sz="2400" spc="-1" strike="noStrike">
              <a:solidFill>
                <a:srgbClr val="333333"/>
              </a:solidFill>
              <a:latin typeface="Arial Narrow"/>
            </a:endParaRPr>
          </a:p>
        </p:txBody>
      </p:sp>
      <p:pic>
        <p:nvPicPr>
          <p:cNvPr id="304" name="Picture 24" descr="Hindenburg"/>
          <p:cNvPicPr/>
          <p:nvPr/>
        </p:nvPicPr>
        <p:blipFill>
          <a:blip r:embed="rId1"/>
          <a:stretch/>
        </p:blipFill>
        <p:spPr>
          <a:xfrm>
            <a:off x="685800" y="1905120"/>
            <a:ext cx="3809880" cy="29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 Narrow"/>
              </a:rPr>
              <a:t>Alkali Metals</a:t>
            </a: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 Narrow"/>
              </a:rPr>
              <a:t>1</a:t>
            </a:r>
            <a:r>
              <a:rPr b="0" lang="en-US" sz="2800" spc="-1" strike="noStrike" baseline="30000">
                <a:solidFill>
                  <a:srgbClr val="333333"/>
                </a:solidFill>
                <a:latin typeface="Arial Narrow"/>
              </a:rPr>
              <a:t>st</a:t>
            </a:r>
            <a:r>
              <a:rPr b="0" lang="en-US" sz="2800" spc="-1" strike="noStrike">
                <a:solidFill>
                  <a:srgbClr val="333333"/>
                </a:solidFill>
                <a:latin typeface="Arial Narrow"/>
              </a:rPr>
              <a:t> column on the periodic table (Group 1) not including hydrogen. </a:t>
            </a: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 Narrow"/>
              </a:rPr>
              <a:t>Very reactive metals, always combined with something else in nature (like in salt).</a:t>
            </a: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 Narrow"/>
              </a:rPr>
              <a:t>Soft enough to cut with a butter knife</a:t>
            </a: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</p:txBody>
      </p:sp>
      <p:pic>
        <p:nvPicPr>
          <p:cNvPr id="307" name="Picture 5" descr="j0232578"/>
          <p:cNvPicPr/>
          <p:nvPr/>
        </p:nvPicPr>
        <p:blipFill>
          <a:blip r:embed="rId1"/>
          <a:stretch/>
        </p:blipFill>
        <p:spPr>
          <a:xfrm>
            <a:off x="4648320" y="2325600"/>
            <a:ext cx="3809880" cy="34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4T01:52:15Z</dcterms:created>
  <dc:creator>Inst</dc:creator>
  <dc:description/>
  <dc:language>en-US</dc:language>
  <cp:lastModifiedBy>jluckey</cp:lastModifiedBy>
  <dcterms:modified xsi:type="dcterms:W3CDTF">2010-12-01T17:34:13Z</dcterms:modified>
  <cp:revision>6</cp:revision>
  <dc:subject/>
  <dc:title>The Periodic Table</dc:title>
</cp:coreProperties>
</file>